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-36360" y="6705720"/>
            <a:ext cx="722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Eisenberg 2010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historyplace.com/worldwar2/riseofhitler/kampf.ht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tler’s book—”Mein Kampf”</a:t>
            </a:r>
            <a:br>
              <a:rPr sz="4400"/>
            </a:br>
            <a:r>
              <a:rPr b="0" lang="en-US" sz="1400" spc="-1" strike="noStrike">
                <a:solidFill>
                  <a:srgbClr val="6b6bcf"/>
                </a:solidFill>
                <a:latin typeface="Arial"/>
              </a:rPr>
              <a:t>(write the topic of your note card here….you may have several cards with the same topi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 means “My Struggle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tler writes about when he was young and his plans for a better Germany through the Nazi Pa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shares his ideas on politics and 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057040" y="6294240"/>
            <a:ext cx="6629400" cy="48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historyplace.com/worldwar2/riseofhitler/kampf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763920" y="63388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Rectangle 5" descr=""/>
          <p:cNvPicPr/>
          <p:nvPr/>
        </p:nvPicPr>
        <p:blipFill>
          <a:blip r:embed="rId2"/>
          <a:stretch/>
        </p:blipFill>
        <p:spPr>
          <a:xfrm>
            <a:off x="1779480" y="3809880"/>
            <a:ext cx="549288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057040" y="6294240"/>
            <a:ext cx="6629400" cy="48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763920" y="63388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057040" y="6294240"/>
            <a:ext cx="6629400" cy="48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763920" y="63388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057040" y="6294240"/>
            <a:ext cx="6629400" cy="48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763920" y="63388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057040" y="6294240"/>
            <a:ext cx="6629400" cy="48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763920" y="63388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057040" y="6294240"/>
            <a:ext cx="6629400" cy="48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763920" y="63388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057040" y="6294240"/>
            <a:ext cx="6629400" cy="48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763920" y="63388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057040" y="6294240"/>
            <a:ext cx="6629400" cy="48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763920" y="63388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057040" y="6294240"/>
            <a:ext cx="6629400" cy="48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763920" y="63388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057040" y="6294240"/>
            <a:ext cx="6629400" cy="48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763920" y="63388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05:09:20Z</dcterms:created>
  <dc:creator>Mike Eisenberg</dc:creator>
  <dc:description/>
  <dc:language>en-US</dc:language>
  <cp:lastModifiedBy>poweruser</cp:lastModifiedBy>
  <dcterms:modified xsi:type="dcterms:W3CDTF">2012-01-25T02:12:24Z</dcterms:modified>
  <cp:revision>13</cp:revision>
  <dc:subject/>
  <dc:title>Slide 1</dc:title>
</cp:coreProperties>
</file>